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84D-DE99-4228-A055-04BEB3A8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48C-B976-4496-8EEC-85465C67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6F7-5C4B-4EDB-82F1-5D47A5F8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DB1-91DD-4005-A9E7-F906AECA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FC0-ACFC-48F4-A4B4-A9880269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883-F5F8-4E4B-A7C2-86E7A920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B3C-D02F-4D1E-8E09-DEA9C41F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DBB-D6FD-49BC-A0EC-18A055F3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394-B1A9-4756-9189-DB5311C7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749-5410-43FA-81D0-6C33415C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9C8-2CB5-4AD9-B7DF-ED5949BF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023-3204-403B-BF02-60ADDB7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2EE9-CB23-42E7-B721-56534BEAEF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vezetés a programozásb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i tételek megvalós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pascal progr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rogram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rogram elemeit sorokba írjuk. Egy sor max. 126 karakter hosszú leh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jegy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rlátlan hosszúságú szöveg, bárhány programsoron keresztül { } vagy (* *) közö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tasításo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szerű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rtékad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ltozóhivatkozás:=kifej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járáshív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járás-azonosító (aktuális paraméterlis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zérlésátad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 cím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tasításo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Összetet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ekv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ágaz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eltét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tasí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tasí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lasz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zelekto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Állandó:utasítá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Állandó:utasítá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tasít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tasításo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kluso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átul tesztel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E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IL kilépési feltét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öl tesztel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LE belépési feltétel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öl tesztelő lépte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ciklusváltozó:=kezdőérték TO/DOWNTO végérték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hello világ progr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rogram hell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riteln(‘Hello világ !’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rozat szám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1: egy osztály N db tanuló jegyeinek ismeretében adjuk meg az osztály átlag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: egy M elemű betűsorozat betűit fűzzük össze egyetlen szövegg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: adjuk meg az első N természetes szám szorzat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lgoritmu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: egész, X: tömb, F0: elemtípus, S: elemtí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rozatszámítás(N,X,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:=F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klus I=1-től N-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:=f(S,X(I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dön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4: döntsük el egy számról, hogy prímszám-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5: döntsük el egy tanuló év végi jegyei alapján, hogy kitűnő-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Függvény: T: elemtípus </a:t>
            </a:r>
            <a:r>
              <a:rPr b="1" lang="hu-HU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 egész, X tömb,VAN logik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döntés (N,X,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:=ham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I=1 től N-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S:=S + X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döntés(N,X,V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:=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amíg I&lt;= N és nem T(X(I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I:=I+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N:=(I&lt;=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iválasz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6: ismerjük a hónap nevét, a hónapnevek sorozata alapján mondjuk meg a sorszám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7: adjuk meg egy természetes szám legkisebb, 1 től különböző osztój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vény: T: elemtípus </a:t>
            </a:r>
            <a:r>
              <a:rPr b="0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 egész, X tömb, SORSZ eg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iválasztás (N,X,SORS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I:=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Ciklus amíg nem T(X(I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I:=I+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SORSZ:=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áris keres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8: ismerjük egy üzlet havi forgalmát: minden napra megadjuk, hogy mennyi volt a bevétel és mennyi a kiadás. Adjuk meg olyan napot –ha van-, amelyik nem volt nyereség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9: egy tetszőleges természetes számnak adjuk meg egy osztóját, ami nem az 1 és nem is önm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üggvény: T:elemtípus 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egész, X tömb, VAN: logikai, SRSZ: egés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resés (N,X,VAN,SRS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:=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klus amíg I&lt;=N  és nem T(X(I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:=I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N:=(I&lt;=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 VAN akkor SRSZ:=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gszám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10:családok létszámának, illetve jövedelmének alapján állapítsuk meg. Hogy hány család él a létminimum alat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üggvény elemtípus 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: egész, X tömb, DB egés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gszámolás(N,X,D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B: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iklus I=1 től N 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Ha T(X(I)) akkor DB:=DB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gy program felé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 program felépítése a következő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jlé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laráció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áció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es programnyelveknél a fejléc és a deklarációs rész egy része külön forrásfájlban helyezkedik el (C,C++,A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íg más nyelveknél egyetlen egy forrásfájlban található  az implementációval (Pascal,Java,C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Pascal program eleme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övetkező elemi egységekből épül f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imbólum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nntartott szav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onosító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ímké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ám konstan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öveg konstan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választó jelek: egy vagy több szóköz,kontrol karakter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zimbólumo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agybetűk,kisbetűk,számjegy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..Z,a..z,0..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exadecimális számjegy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$ után: 0..9,A..F,a..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karakteres szimbólum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+-*/={}[].,;()^@$#&lt;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tkarakteres szimbólum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&lt;= &gt;= &lt;&gt; := .. (* *) (. 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nntartott szav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, ASM, ARRAY, BEGIN, CASE, CONST, CONSTRUCTOR, DESTRU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, DO, DOWNTO, ELSE, END, FILE, FOR, FUNCTION, GOTO,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, IN, INLINE, INTERFACE, LABEL, MOD, NIL,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, OF, OR, PACKED, PROCEDURE, PROGRAM, 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, SET, SHL, SHR, STRING, THEN, TO, TYPE, UNIT, UNTIL, USES, VAR, WHILE, WITH, X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zonosító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lábbiak egyikét azonosítj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ysé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jár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üggvé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ód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m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í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áltoz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kord és objektum mez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sbetűből,nagybetűből,számjegyből és aláhúzás karakterből állhat, számjeggyel nem kezdődh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program felé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fe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SES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[,azonosító …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blokk – deklarációs rés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címk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=típu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ONST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[:típus]= konstans kifejezé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AR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:típu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 [(formális paraméter lista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ljárásblok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 [(formális paraméter lista)]:típusazonosít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Függvényblok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blokk – végrehajtandó rés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Utasítás[;utasítás…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ND.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járás felé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járásfe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DURE eljárás-azonosító (formális paraméterlista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laráció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üggvény felé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üggvényfej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 eljárás-azonosító (formális paraméterlista):típusazonosít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laráció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1:26:51Z</dcterms:created>
  <dc:creator>Nagymáté Péter</dc:creator>
  <dc:description/>
  <dc:language>en-US</dc:language>
  <cp:lastModifiedBy>Nagymáté Péter</cp:lastModifiedBy>
  <dcterms:modified xsi:type="dcterms:W3CDTF">2004-04-15T13:06:38Z</dcterms:modified>
  <cp:revision>4</cp:revision>
  <dc:subject/>
  <dc:title>Bevezetés a programozásba</dc:title>
</cp:coreProperties>
</file>